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8.gif" ContentType="image/gif"/>
  <Override PartName="/ppt/media/image12.gif" ContentType="image/gif"/>
  <Override PartName="/ppt/media/image15.png" ContentType="image/png"/>
  <Override PartName="/ppt/media/drumroll.wav" ContentType="audio/x-wav"/>
  <Override PartName="/ppt/media/image7.gif" ContentType="image/gif"/>
  <Override PartName="/ppt/media/image18.wmf" ContentType="image/x-wmf"/>
  <Override PartName="/ppt/media/image11.gif" ContentType="image/gif"/>
  <Override PartName="/ppt/media/image14.png" ContentType="image/png"/>
  <Override PartName="/ppt/media/image20.gif" ContentType="image/gif"/>
  <Override PartName="/ppt/media/image3.gif" ContentType="image/gif"/>
  <Override PartName="/ppt/media/image19.png" ContentType="image/png"/>
  <Override PartName="/ppt/media/image16.png" ContentType="image/png"/>
  <Override PartName="/ppt/media/image1.png" ContentType="image/png"/>
  <Override PartName="/ppt/media/image21.gif" ContentType="image/gif"/>
  <Override PartName="/ppt/media/image4.gif" ContentType="image/gif"/>
  <Override PartName="/ppt/media/image2.png" ContentType="image/png"/>
  <Override PartName="/ppt/media/millionaire.wav" ContentType="audio/x-wav"/>
  <Override PartName="/ppt/media/image5.gif" ContentType="image/gif"/>
  <Override PartName="/ppt/media/image13.png" ContentType="image/png"/>
  <Override PartName="/ppt/media/image10.gif" ContentType="image/gif"/>
  <Override PartName="/ppt/media/image6.gif" ContentType="image/gif"/>
  <Override PartName="/ppt/media/image1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A1678-D354-4093-A827-978AAD58C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5F162-6353-4213-BCEF-7B1826C7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B76F1-F6EC-477B-8D48-FF4614269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FDFAB-DBC9-4C42-B419-855813FB0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E2B9-995A-4D81-BFF3-AD9D4A5CE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9724-082D-4661-8855-2E390943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A1F3C-C331-4048-9842-9062C3F0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ECB7-4012-403C-B9CC-3B9D6496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2F22-B0F2-458D-A067-B6CE901C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38AC-BB76-4046-B4B5-67CA27DB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D0BF-7DFC-49D0-BA1E-09A67B56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FF153-C6A5-4D81-8B24-79E5650A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356F-137F-4EAE-800C-5127A315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A4AD-089C-4D2F-9EE5-A2F3CF6B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3C94-9473-418E-BE7B-33699F62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57C2-28F0-440B-BA59-D6BD5C800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CA17-8187-462E-A33C-C83389408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C8E23-0C15-434B-BA06-E355B522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63E6B-CDE5-4B92-A37F-E6EA30A4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9AF11-B6EC-4B96-A721-D74E62B9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DB308-ACFE-4CE5-BE46-64CF3ABE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31FC3-E639-4B92-97B1-9C5B0422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7139B-F971-4C72-ADB9-6FE40CBE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BB9A3-9314-46B3-842E-7E1CF379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c4c4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bbbbb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c2c2c2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AA01-7DFB-4378-8ADD-6B76B9B3D7E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c4c4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bbbbb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c2c2c2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43EC-11CD-4387-A287-3D101F616956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4.xml"/><Relationship Id="rId4" Type="http://schemas.openxmlformats.org/officeDocument/2006/relationships/image" Target="../media/image2.png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image" Target="../media/image3.gif"/><Relationship Id="rId10" Type="http://schemas.openxmlformats.org/officeDocument/2006/relationships/image" Target="../media/image7.gif"/><Relationship Id="rId11" Type="http://schemas.openxmlformats.org/officeDocument/2006/relationships/image" Target="../media/image8.gif"/><Relationship Id="rId12" Type="http://schemas.openxmlformats.org/officeDocument/2006/relationships/image" Target="../media/image9.gif"/><Relationship Id="rId13" Type="http://schemas.openxmlformats.org/officeDocument/2006/relationships/image" Target="../media/image10.gif"/><Relationship Id="rId14" Type="http://schemas.openxmlformats.org/officeDocument/2006/relationships/image" Target="../media/image4.gif"/><Relationship Id="rId15" Type="http://schemas.openxmlformats.org/officeDocument/2006/relationships/image" Target="../media/image5.gif"/><Relationship Id="rId16" Type="http://schemas.openxmlformats.org/officeDocument/2006/relationships/image" Target="../media/image9.gif"/><Relationship Id="rId17" Type="http://schemas.openxmlformats.org/officeDocument/2006/relationships/image" Target="../media/image11.gif"/><Relationship Id="rId18" Type="http://schemas.openxmlformats.org/officeDocument/2006/relationships/image" Target="../media/image12.gif"/><Relationship Id="rId19" Type="http://schemas.openxmlformats.org/officeDocument/2006/relationships/slide" Target="slide14.xml"/><Relationship Id="rId20" Type="http://schemas.openxmlformats.org/officeDocument/2006/relationships/image" Target="../media/image13.png"/><Relationship Id="rId21" Type="http://schemas.openxmlformats.org/officeDocument/2006/relationships/audio" Target="../media/millionaire.wav"/><Relationship Id="rId2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5.xm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5"/>
          <p:cNvSpPr txBox="1"/>
          <p:nvPr/>
        </p:nvSpPr>
        <p:spPr>
          <a:xfrm>
            <a:off x="990720" y="1066680"/>
            <a:ext cx="7543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Внеклассное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мероприяти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для старшекласснико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685800" y="762120"/>
            <a:ext cx="40384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Ваш выигрыш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"/>
              </a:rPr>
              <a:t>0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баллов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Picture 3" descr="elv4"/>
          <p:cNvPicPr/>
          <p:nvPr/>
        </p:nvPicPr>
        <p:blipFill>
          <a:blip r:embed="rId1"/>
          <a:stretch/>
        </p:blipFill>
        <p:spPr>
          <a:xfrm>
            <a:off x="4343400" y="1590840"/>
            <a:ext cx="4419720" cy="404784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4"/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" name="Picture 5" descr="man11"/>
          <p:cNvPicPr/>
          <p:nvPr/>
        </p:nvPicPr>
        <p:blipFill>
          <a:blip r:embed="rId2"/>
          <a:stretch/>
        </p:blipFill>
        <p:spPr>
          <a:xfrm>
            <a:off x="1143000" y="4191120"/>
            <a:ext cx="4133880" cy="231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1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1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533520" y="2514600"/>
            <a:ext cx="4038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Ваш выигрыш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"/>
              </a:rPr>
              <a:t>1 000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баллов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Маловато будет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Picture 6" descr="elv4"/>
          <p:cNvPicPr/>
          <p:nvPr/>
        </p:nvPicPr>
        <p:blipFill>
          <a:blip r:embed="rId1"/>
          <a:stretch/>
        </p:blipFill>
        <p:spPr>
          <a:xfrm>
            <a:off x="4724280" y="666720"/>
            <a:ext cx="4419720" cy="404820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9"/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1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1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685800" y="2514600"/>
            <a:ext cx="4038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Ваш выигрыш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"/>
              </a:rPr>
              <a:t>32 000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балло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Неплохо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5" name="Picture 3" descr="elv4"/>
          <p:cNvPicPr/>
          <p:nvPr/>
        </p:nvPicPr>
        <p:blipFill>
          <a:blip r:embed="rId1"/>
          <a:stretch/>
        </p:blipFill>
        <p:spPr>
          <a:xfrm>
            <a:off x="4419720" y="685800"/>
            <a:ext cx="4419360" cy="4048200"/>
          </a:xfrm>
          <a:prstGeom prst="rect">
            <a:avLst/>
          </a:prstGeom>
          <a:ln w="0">
            <a:noFill/>
          </a:ln>
        </p:spPr>
      </p:pic>
      <p:sp>
        <p:nvSpPr>
          <p:cNvPr id="196" name="AutoShape 5"/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1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1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380880" y="990720"/>
            <a:ext cx="4038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Ваш выигрыш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"/>
              </a:rPr>
              <a:t>250 0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балло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Вы отлично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Потрудились!!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3" descr="elv4"/>
          <p:cNvPicPr/>
          <p:nvPr/>
        </p:nvPicPr>
        <p:blipFill>
          <a:blip r:embed="rId1"/>
          <a:stretch/>
        </p:blipFill>
        <p:spPr>
          <a:xfrm>
            <a:off x="4419720" y="685800"/>
            <a:ext cx="4419360" cy="404820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4"/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1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1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1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StoneSerif SAIN SmBd v.1"/>
              </a:rPr>
              <a:t> 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Расположите названия произведений Пушкина в алфавитном порядке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2590560"/>
            <a:ext cx="2824200" cy="35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2929ff"/>
                </a:solidFill>
                <a:latin typeface="Tahoma"/>
              </a:rPr>
              <a:t>А: “Гробовщик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2929ff"/>
                </a:solidFill>
                <a:latin typeface="Tahoma"/>
              </a:rPr>
              <a:t>В: “Барышня-крестьянка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ff"/>
                </a:solidFill>
                <a:latin typeface="Tahoma"/>
              </a:rPr>
              <a:t>С: “Выстрел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ff"/>
                </a:solidFill>
                <a:latin typeface="Tahoma"/>
              </a:rPr>
              <a:t>D: “Дубровский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29200" y="2361960"/>
            <a:ext cx="3657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В: “Барышня-крестьянка”</a:t>
            </a:r>
            <a:r>
              <a:rPr b="0" lang="ru-RU" sz="2800" spc="-1" strike="noStrike">
                <a:solidFill>
                  <a:srgbClr val="6600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С: “Выстрел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А: “Гробовщик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D: “Дубровский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6">
            <a:hlinkClick r:id="" action="ppaction://hlinkshowjump?jump=nextslide"/>
          </p:cNvPr>
          <p:cNvSpPr/>
          <p:nvPr/>
        </p:nvSpPr>
        <p:spPr>
          <a:xfrm>
            <a:off x="2514600" y="6553080"/>
            <a:ext cx="4114800" cy="304920"/>
          </a:xfrm>
          <a:custGeom>
            <a:avLst/>
            <a:gdLst>
              <a:gd name="textAreaLeft" fmla="*/ 19440 w 4114800"/>
              <a:gd name="textAreaRight" fmla="*/ 4095360 w 4114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91167" h="21600">
                <a:moveTo>
                  <a:pt x="0" y="0"/>
                </a:moveTo>
                <a:lnTo>
                  <a:pt x="291167" y="0"/>
                </a:lnTo>
                <a:lnTo>
                  <a:pt x="291167" y="21600"/>
                </a:lnTo>
                <a:lnTo>
                  <a:pt x="0" y="21600"/>
                </a:lnTo>
                <a:close/>
              </a:path>
              <a:path fill="lightenLess" w="291167" h="21600">
                <a:moveTo>
                  <a:pt x="0" y="0"/>
                </a:moveTo>
                <a:lnTo>
                  <a:pt x="291167" y="0"/>
                </a:lnTo>
                <a:lnTo>
                  <a:pt x="289767" y="1400"/>
                </a:lnTo>
                <a:lnTo>
                  <a:pt x="1400" y="1400"/>
                </a:lnTo>
                <a:close/>
              </a:path>
              <a:path fill="darken" w="291167" h="21600">
                <a:moveTo>
                  <a:pt x="291167" y="0"/>
                </a:moveTo>
                <a:lnTo>
                  <a:pt x="291167" y="21600"/>
                </a:lnTo>
                <a:lnTo>
                  <a:pt x="289767" y="20200"/>
                </a:lnTo>
                <a:lnTo>
                  <a:pt x="289767" y="1400"/>
                </a:lnTo>
                <a:close/>
              </a:path>
              <a:path fill="darkenLess" w="291167" h="21600">
                <a:moveTo>
                  <a:pt x="29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767" y="20200"/>
                </a:lnTo>
                <a:close/>
              </a:path>
              <a:path fill="lighten" w="29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42d12"/>
                </a:solidFill>
                <a:latin typeface="StoneSerif SAIN SmBd v.1"/>
              </a:rPr>
              <a:t>Дополнительный отборочный ту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386" dur="indefinite" restart="never" nodeType="tmRoot">
          <p:childTnLst>
            <p:seq>
              <p:cTn id="387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388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9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9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9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9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2365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Расположите данные эпизоды в той же последовательности, что и в романе Пушкина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437920"/>
            <a:ext cx="30481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А: письмо Татьяны к Онегину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В: дуэль Онегина с Ленски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С: сон Татьяны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D: письмо Онегина к Татьян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1640" y="2590560"/>
            <a:ext cx="4267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А: письмо Татьяны к Онегину</a:t>
            </a:r>
            <a:r>
              <a:rPr b="0" lang="ru-RU" sz="2800" spc="-1" strike="noStrike">
                <a:solidFill>
                  <a:srgbClr val="66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С: сон Татьяны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В: дуэль Онегина с Ленски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D: письмо Онегина к Татья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420" dur="indefinite" restart="never" nodeType="tmRoot">
          <p:childTnLst>
            <p:seq>
              <p:cTn id="421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422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5"/>
          <p:cNvSpPr/>
          <p:nvPr/>
        </p:nvSpPr>
        <p:spPr>
          <a:xfrm>
            <a:off x="4479840" y="32320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900cc"/>
                </a:solidFill>
                <a:latin typeface="Times New Roman"/>
              </a:rPr>
              <a:t>Игра</a:t>
            </a:r>
            <a:r>
              <a:rPr b="1" lang="ru-RU" sz="6000" spc="-1" strike="noStrike">
                <a:solidFill>
                  <a:srgbClr val="9900cc"/>
                </a:solidFill>
                <a:latin typeface="Times New Roman"/>
              </a:rPr>
              <a:t> «</a:t>
            </a:r>
            <a:r>
              <a:rPr b="1" lang="ru-RU" sz="6000" spc="-1" strike="noStrike">
                <a:solidFill>
                  <a:srgbClr val="008000"/>
                </a:solidFill>
                <a:latin typeface="Times New Roman"/>
              </a:rPr>
              <a:t>Кто хочет стать миллионером?</a:t>
            </a:r>
            <a:r>
              <a:rPr b="1" lang="ru-RU" sz="6000" spc="-1" strike="noStrike">
                <a:solidFill>
                  <a:srgbClr val="9900cc"/>
                </a:solidFill>
                <a:latin typeface="Times New Roman"/>
              </a:rPr>
              <a:t>»</a:t>
            </a:r>
            <a:endParaRPr b="0" lang="en-US" sz="6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8" name="AutoShape 4">
            <a:hlinkClick r:id="rId1" action="ppaction://hlinksldjump"/>
          </p:cNvPr>
          <p:cNvSpPr/>
          <p:nvPr/>
        </p:nvSpPr>
        <p:spPr>
          <a:xfrm>
            <a:off x="2438280" y="2971800"/>
            <a:ext cx="4267440" cy="762120"/>
          </a:xfrm>
          <a:custGeom>
            <a:avLst/>
            <a:gdLst>
              <a:gd name="textAreaLeft" fmla="*/ 49320 w 4267440"/>
              <a:gd name="textAreaRight" fmla="*/ 4218120 w 4267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20901" h="21600">
                <a:moveTo>
                  <a:pt x="0" y="0"/>
                </a:moveTo>
                <a:lnTo>
                  <a:pt x="120901" y="0"/>
                </a:lnTo>
                <a:lnTo>
                  <a:pt x="120901" y="21600"/>
                </a:lnTo>
                <a:lnTo>
                  <a:pt x="0" y="21600"/>
                </a:lnTo>
                <a:close/>
              </a:path>
              <a:path fill="lightenLess" w="120901" h="21600">
                <a:moveTo>
                  <a:pt x="0" y="0"/>
                </a:moveTo>
                <a:lnTo>
                  <a:pt x="120901" y="0"/>
                </a:lnTo>
                <a:lnTo>
                  <a:pt x="119501" y="1400"/>
                </a:lnTo>
                <a:lnTo>
                  <a:pt x="1400" y="1400"/>
                </a:lnTo>
                <a:close/>
              </a:path>
              <a:path fill="darken" w="120901" h="21600">
                <a:moveTo>
                  <a:pt x="120901" y="0"/>
                </a:moveTo>
                <a:lnTo>
                  <a:pt x="120901" y="21600"/>
                </a:lnTo>
                <a:lnTo>
                  <a:pt x="119501" y="20200"/>
                </a:lnTo>
                <a:lnTo>
                  <a:pt x="119501" y="1400"/>
                </a:lnTo>
                <a:close/>
              </a:path>
              <a:path fill="darkenLess" w="120901" h="21600">
                <a:moveTo>
                  <a:pt x="120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501" y="20200"/>
                </a:lnTo>
                <a:close/>
              </a:path>
              <a:path fill="lighten" w="120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ервый отборочный ту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AutoShape 5">
            <a:hlinkClick r:id="rId3" action="ppaction://hlinksldjump"/>
          </p:cNvPr>
          <p:cNvSpPr/>
          <p:nvPr/>
        </p:nvSpPr>
        <p:spPr>
          <a:xfrm>
            <a:off x="2438280" y="3962520"/>
            <a:ext cx="4267440" cy="685800"/>
          </a:xfrm>
          <a:custGeom>
            <a:avLst/>
            <a:gdLst>
              <a:gd name="textAreaLeft" fmla="*/ 44280 w 4267440"/>
              <a:gd name="textAreaRight" fmla="*/ 4223160 w 4267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34348" h="21600">
                <a:moveTo>
                  <a:pt x="0" y="0"/>
                </a:moveTo>
                <a:lnTo>
                  <a:pt x="134348" y="0"/>
                </a:lnTo>
                <a:lnTo>
                  <a:pt x="134348" y="21600"/>
                </a:lnTo>
                <a:lnTo>
                  <a:pt x="0" y="21600"/>
                </a:lnTo>
                <a:close/>
              </a:path>
              <a:path fill="lightenLess" w="134348" h="21600">
                <a:moveTo>
                  <a:pt x="0" y="0"/>
                </a:moveTo>
                <a:lnTo>
                  <a:pt x="134348" y="0"/>
                </a:lnTo>
                <a:lnTo>
                  <a:pt x="132948" y="1400"/>
                </a:lnTo>
                <a:lnTo>
                  <a:pt x="1400" y="1400"/>
                </a:lnTo>
                <a:close/>
              </a:path>
              <a:path fill="darken" w="134348" h="21600">
                <a:moveTo>
                  <a:pt x="134348" y="0"/>
                </a:moveTo>
                <a:lnTo>
                  <a:pt x="134348" y="21600"/>
                </a:lnTo>
                <a:lnTo>
                  <a:pt x="132948" y="20200"/>
                </a:lnTo>
                <a:lnTo>
                  <a:pt x="132948" y="1400"/>
                </a:lnTo>
                <a:close/>
              </a:path>
              <a:path fill="darkenLess" w="134348" h="21600">
                <a:moveTo>
                  <a:pt x="134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2948" y="20200"/>
                </a:lnTo>
                <a:close/>
              </a:path>
              <a:path fill="lighten" w="134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торой отборочный ту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7" descr="116"/>
          <p:cNvPicPr/>
          <p:nvPr/>
        </p:nvPicPr>
        <p:blipFill>
          <a:blip r:embed="rId5"/>
          <a:stretch/>
        </p:blipFill>
        <p:spPr>
          <a:xfrm>
            <a:off x="1066680" y="5562720"/>
            <a:ext cx="438120" cy="476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99"/>
          <p:cNvPicPr/>
          <p:nvPr/>
        </p:nvPicPr>
        <p:blipFill>
          <a:blip r:embed="rId6"/>
          <a:stretch/>
        </p:blipFill>
        <p:spPr>
          <a:xfrm>
            <a:off x="1676520" y="5705640"/>
            <a:ext cx="428400" cy="466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104"/>
          <p:cNvPicPr/>
          <p:nvPr/>
        </p:nvPicPr>
        <p:blipFill>
          <a:blip r:embed="rId7"/>
          <a:stretch/>
        </p:blipFill>
        <p:spPr>
          <a:xfrm>
            <a:off x="2209680" y="55627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97"/>
          <p:cNvPicPr/>
          <p:nvPr/>
        </p:nvPicPr>
        <p:blipFill>
          <a:blip r:embed="rId8"/>
          <a:stretch/>
        </p:blipFill>
        <p:spPr>
          <a:xfrm>
            <a:off x="2819520" y="56959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116"/>
          <p:cNvPicPr/>
          <p:nvPr/>
        </p:nvPicPr>
        <p:blipFill>
          <a:blip r:embed="rId9"/>
          <a:stretch/>
        </p:blipFill>
        <p:spPr>
          <a:xfrm>
            <a:off x="3429000" y="5562720"/>
            <a:ext cx="438120" cy="476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117"/>
          <p:cNvPicPr/>
          <p:nvPr/>
        </p:nvPicPr>
        <p:blipFill>
          <a:blip r:embed="rId10"/>
          <a:stretch/>
        </p:blipFill>
        <p:spPr>
          <a:xfrm>
            <a:off x="3962520" y="5695920"/>
            <a:ext cx="457200" cy="476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108"/>
          <p:cNvPicPr/>
          <p:nvPr/>
        </p:nvPicPr>
        <p:blipFill>
          <a:blip r:embed="rId11"/>
          <a:stretch/>
        </p:blipFill>
        <p:spPr>
          <a:xfrm>
            <a:off x="4495680" y="5562720"/>
            <a:ext cx="400320" cy="476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105"/>
          <p:cNvPicPr/>
          <p:nvPr/>
        </p:nvPicPr>
        <p:blipFill>
          <a:blip r:embed="rId12"/>
          <a:stretch/>
        </p:blipFill>
        <p:spPr>
          <a:xfrm>
            <a:off x="5029200" y="5695920"/>
            <a:ext cx="190440" cy="476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5" descr="119"/>
          <p:cNvPicPr/>
          <p:nvPr/>
        </p:nvPicPr>
        <p:blipFill>
          <a:blip r:embed="rId13"/>
          <a:stretch/>
        </p:blipFill>
        <p:spPr>
          <a:xfrm>
            <a:off x="5334120" y="5562720"/>
            <a:ext cx="457200" cy="476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6" descr="99"/>
          <p:cNvPicPr/>
          <p:nvPr/>
        </p:nvPicPr>
        <p:blipFill>
          <a:blip r:embed="rId14"/>
          <a:stretch/>
        </p:blipFill>
        <p:spPr>
          <a:xfrm>
            <a:off x="5867280" y="5705640"/>
            <a:ext cx="428760" cy="466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7" descr="104"/>
          <p:cNvPicPr/>
          <p:nvPr/>
        </p:nvPicPr>
        <p:blipFill>
          <a:blip r:embed="rId15"/>
          <a:stretch/>
        </p:blipFill>
        <p:spPr>
          <a:xfrm>
            <a:off x="6400800" y="55627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8" descr="105"/>
          <p:cNvPicPr/>
          <p:nvPr/>
        </p:nvPicPr>
        <p:blipFill>
          <a:blip r:embed="rId16"/>
          <a:stretch/>
        </p:blipFill>
        <p:spPr>
          <a:xfrm>
            <a:off x="7010280" y="5695920"/>
            <a:ext cx="190800" cy="47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9" descr="107"/>
          <p:cNvPicPr/>
          <p:nvPr/>
        </p:nvPicPr>
        <p:blipFill>
          <a:blip r:embed="rId17"/>
          <a:stretch/>
        </p:blipFill>
        <p:spPr>
          <a:xfrm>
            <a:off x="7315200" y="55627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0" descr="85"/>
          <p:cNvPicPr/>
          <p:nvPr/>
        </p:nvPicPr>
        <p:blipFill>
          <a:blip r:embed="rId18"/>
          <a:stretch/>
        </p:blipFill>
        <p:spPr>
          <a:xfrm>
            <a:off x="7924680" y="5638680"/>
            <a:ext cx="209520" cy="47628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21">
            <a:hlinkClick r:id="rId19" action="ppaction://hlinksldjump"/>
          </p:cNvPr>
          <p:cNvSpPr/>
          <p:nvPr/>
        </p:nvSpPr>
        <p:spPr>
          <a:xfrm>
            <a:off x="2438280" y="4876920"/>
            <a:ext cx="4267440" cy="914400"/>
          </a:xfrm>
          <a:custGeom>
            <a:avLst/>
            <a:gdLst>
              <a:gd name="textAreaLeft" fmla="*/ 59040 w 4267440"/>
              <a:gd name="textAreaRight" fmla="*/ 4208400 w 42674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00774" h="21600">
                <a:moveTo>
                  <a:pt x="0" y="0"/>
                </a:moveTo>
                <a:lnTo>
                  <a:pt x="100774" y="0"/>
                </a:lnTo>
                <a:lnTo>
                  <a:pt x="100774" y="21600"/>
                </a:lnTo>
                <a:lnTo>
                  <a:pt x="0" y="21600"/>
                </a:lnTo>
                <a:close/>
              </a:path>
              <a:path fill="lightenLess" w="100774" h="21600">
                <a:moveTo>
                  <a:pt x="0" y="0"/>
                </a:moveTo>
                <a:lnTo>
                  <a:pt x="100774" y="0"/>
                </a:lnTo>
                <a:lnTo>
                  <a:pt x="99375" y="1400"/>
                </a:lnTo>
                <a:lnTo>
                  <a:pt x="1400" y="1400"/>
                </a:lnTo>
                <a:close/>
              </a:path>
              <a:path fill="darken" w="100774" h="21600">
                <a:moveTo>
                  <a:pt x="100774" y="0"/>
                </a:moveTo>
                <a:lnTo>
                  <a:pt x="100774" y="21600"/>
                </a:lnTo>
                <a:lnTo>
                  <a:pt x="99375" y="20200"/>
                </a:lnTo>
                <a:lnTo>
                  <a:pt x="99375" y="1400"/>
                </a:lnTo>
                <a:close/>
              </a:path>
              <a:path fill="darkenLess" w="100774" h="21600">
                <a:moveTo>
                  <a:pt x="100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75" y="20200"/>
                </a:lnTo>
                <a:close/>
              </a:path>
              <a:path fill="lighten" w="100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ретий отборочный ту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8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9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15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25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35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4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45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2441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В кого поочередно превращался князь Гвидон, когда летал в царство Салтана? 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3885840"/>
            <a:ext cx="38102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А: в шмел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В: в мух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С: в комар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7960" y="3885840"/>
            <a:ext cx="38098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ff"/>
                </a:solidFill>
                <a:latin typeface="Tahoma"/>
              </a:rPr>
              <a:t>В: в мух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ff"/>
                </a:solidFill>
                <a:latin typeface="Tahoma"/>
              </a:rPr>
              <a:t>А: в шмел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ff"/>
                </a:solidFill>
                <a:latin typeface="Tahoma"/>
              </a:rPr>
              <a:t>С: в кома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AutoShape 8">
            <a:hlinkClick r:id="rId1" action="ppaction://hlinksldjump"/>
          </p:cNvPr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AutoShape 9">
            <a:hlinkClick r:id="rId2" action="ppaction://hlinksldjump"/>
          </p:cNvPr>
          <p:cNvSpPr/>
          <p:nvPr/>
        </p:nvSpPr>
        <p:spPr>
          <a:xfrm>
            <a:off x="2514600" y="6553080"/>
            <a:ext cx="4114800" cy="304920"/>
          </a:xfrm>
          <a:custGeom>
            <a:avLst/>
            <a:gdLst>
              <a:gd name="textAreaLeft" fmla="*/ 19440 w 4114800"/>
              <a:gd name="textAreaRight" fmla="*/ 4095360 w 4114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91167" h="21600">
                <a:moveTo>
                  <a:pt x="0" y="0"/>
                </a:moveTo>
                <a:lnTo>
                  <a:pt x="291167" y="0"/>
                </a:lnTo>
                <a:lnTo>
                  <a:pt x="291167" y="21600"/>
                </a:lnTo>
                <a:lnTo>
                  <a:pt x="0" y="21600"/>
                </a:lnTo>
                <a:close/>
              </a:path>
              <a:path fill="lightenLess" w="291167" h="21600">
                <a:moveTo>
                  <a:pt x="0" y="0"/>
                </a:moveTo>
                <a:lnTo>
                  <a:pt x="291167" y="0"/>
                </a:lnTo>
                <a:lnTo>
                  <a:pt x="289767" y="1400"/>
                </a:lnTo>
                <a:lnTo>
                  <a:pt x="1400" y="1400"/>
                </a:lnTo>
                <a:close/>
              </a:path>
              <a:path fill="darken" w="291167" h="21600">
                <a:moveTo>
                  <a:pt x="291167" y="0"/>
                </a:moveTo>
                <a:lnTo>
                  <a:pt x="291167" y="21600"/>
                </a:lnTo>
                <a:lnTo>
                  <a:pt x="289767" y="20200"/>
                </a:lnTo>
                <a:lnTo>
                  <a:pt x="289767" y="1400"/>
                </a:lnTo>
                <a:close/>
              </a:path>
              <a:path fill="darkenLess" w="291167" h="21600">
                <a:moveTo>
                  <a:pt x="29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767" y="20200"/>
                </a:lnTo>
                <a:close/>
              </a:path>
              <a:path fill="lighten" w="29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42d12"/>
                </a:solidFill>
                <a:latin typeface="StoneSerif SAIN SmBd v.1"/>
              </a:rPr>
              <a:t>Дополнительный отборочный ту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80" dur="indefinite" restart="never" nodeType="tmRoot">
          <p:childTnLst>
            <p:seq>
              <p:cTn id="81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9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Расположите требования старухи из “Сказки о рыбаке и рыбке”.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3657600" cy="384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А: стать владычицей морскою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В: новый дом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С: новое корыто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D: вольною цариц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76560" y="2286000"/>
            <a:ext cx="3809880" cy="382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С: новое корыто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В: новый дом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D: вольною цариц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А: стать владычицей морскою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AutoShape 6">
            <a:hlinkClick r:id="rId1" action="ppaction://hlinksldjump"/>
          </p:cNvPr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2514600" y="6553080"/>
            <a:ext cx="4114800" cy="304920"/>
          </a:xfrm>
          <a:custGeom>
            <a:avLst/>
            <a:gdLst>
              <a:gd name="textAreaLeft" fmla="*/ 19440 w 4114800"/>
              <a:gd name="textAreaRight" fmla="*/ 4095360 w 4114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91167" h="21600">
                <a:moveTo>
                  <a:pt x="0" y="0"/>
                </a:moveTo>
                <a:lnTo>
                  <a:pt x="291167" y="0"/>
                </a:lnTo>
                <a:lnTo>
                  <a:pt x="291167" y="21600"/>
                </a:lnTo>
                <a:lnTo>
                  <a:pt x="0" y="21600"/>
                </a:lnTo>
                <a:close/>
              </a:path>
              <a:path fill="lightenLess" w="291167" h="21600">
                <a:moveTo>
                  <a:pt x="0" y="0"/>
                </a:moveTo>
                <a:lnTo>
                  <a:pt x="291167" y="0"/>
                </a:lnTo>
                <a:lnTo>
                  <a:pt x="289767" y="1400"/>
                </a:lnTo>
                <a:lnTo>
                  <a:pt x="1400" y="1400"/>
                </a:lnTo>
                <a:close/>
              </a:path>
              <a:path fill="darken" w="291167" h="21600">
                <a:moveTo>
                  <a:pt x="291167" y="0"/>
                </a:moveTo>
                <a:lnTo>
                  <a:pt x="291167" y="21600"/>
                </a:lnTo>
                <a:lnTo>
                  <a:pt x="289767" y="20200"/>
                </a:lnTo>
                <a:lnTo>
                  <a:pt x="289767" y="1400"/>
                </a:lnTo>
                <a:close/>
              </a:path>
              <a:path fill="darkenLess" w="291167" h="21600">
                <a:moveTo>
                  <a:pt x="29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767" y="20200"/>
                </a:lnTo>
                <a:close/>
              </a:path>
              <a:path fill="lighten" w="29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42d12"/>
                </a:solidFill>
                <a:latin typeface="StoneSerif SAIN SmBd v.1"/>
              </a:rPr>
              <a:t>Дополнительный отборочный ту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106" dur="indefinite" restart="never" nodeType="tmRoot">
          <p:childTnLst>
            <p:seq>
              <p:cTn id="107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5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45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45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5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Какие чудесные дары получил от царевны Лебеди князь Гвидон? Расположить их по порядку.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28951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А: царевна согласилась стать его жено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В: 33 богатыря с дядькой Черноморо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С: чудный город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D: белку с золотыми орехам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7960" y="28951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С: чудный город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D: белку с золотыми орехам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В: 33 богатыря с дядькой Черноморо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А: царевна согласилась стать его жено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vert"/>
  </p:transition>
  <p:timing>
    <p:tnLst>
      <p:par>
        <p:cTn id="143" dur="indefinite" restart="never" nodeType="tmRoot">
          <p:childTnLst>
            <p:seq>
              <p:cTn id="144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9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9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9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2365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Расположите периоды жизни Пушкина в хронологическом порядке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1920" y="2590920"/>
            <a:ext cx="4343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А: лицейский перио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В: Михайловско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С: Болдин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D: Южная ссыл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1640" y="2743200"/>
            <a:ext cx="42670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А: лицейский перио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D: Южная ссыл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С: Болдин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В: Михайловско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185" dur="indefinite" restart="never" nodeType="tmRoot">
          <p:childTnLst>
            <p:seq>
              <p:cTn id="186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blipFill rotWithShape="0">
            <a:blip r:embed="rId7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blipFill rotWithShape="0">
            <a:blip r:embed="rId8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blipFill rotWithShape="0">
            <a:blip r:embed="rId9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blipFill rotWithShape="0">
            <a:blip r:embed="rId10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blipFill rotWithShape="0">
            <a:blip r:embed="rId11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blipFill rotWithShape="0">
            <a:blip r:embed="rId12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blipFill rotWithShape="0">
            <a:blip r:embed="rId13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blipFill rotWithShape="0">
            <a:blip r:embed="rId14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blipFill rotWithShape="0">
            <a:blip r:embed="rId15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250" autoRev="1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21" dur="250" autoRev="1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22" dur="250" autoRev="1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50" autoRev="1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26" dur="250" autoRev="1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27" dur="250" autoRev="1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50" autoRev="1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31" dur="250" autoRev="1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32" dur="250" autoRev="1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36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37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41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42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250" autoRev="1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46" dur="250" autoRev="1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47" dur="250" autoRev="1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250" autoRev="1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51" dur="250" autoRev="1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52" dur="250" autoRev="1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500"/>
                            </p:stCondLst>
                            <p:childTnLst>
                              <p:par>
                                <p:cTn id="25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5" dur="250" autoRev="1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56" dur="250" autoRev="1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57" dur="250" autoRev="1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50" autoRev="1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61" dur="250" autoRev="1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62" dur="250" autoRev="1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500"/>
                            </p:stCondLst>
                            <p:childTnLst>
                              <p:par>
                                <p:cTn id="26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5" dur="25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66" dur="25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67" dur="25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5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71" dur="25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72" dur="25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25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76" dur="25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77" dur="25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6000"/>
                            </p:stCondLst>
                            <p:childTnLst>
                              <p:par>
                                <p:cTn id="27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5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81" dur="25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82" dur="25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6500"/>
                            </p:stCondLst>
                            <p:childTnLst>
                              <p:par>
                                <p:cTn id="28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5" dur="250" autoRev="1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86" dur="250" autoRev="1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87" dur="250" autoRev="1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7000"/>
                            </p:stCondLst>
                            <p:childTnLst>
                              <p:par>
                                <p:cTn id="28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50" autoRev="1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91" dur="250" autoRev="1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92" dur="250" autoRev="1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7500"/>
                            </p:stCondLst>
                            <p:childTnLst>
                              <p:par>
                                <p:cTn id="29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9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9500"/>
                            </p:stCondLst>
                            <p:childTnLst>
                              <p:par>
                                <p:cTn id="297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9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0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01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3500"/>
                            </p:stCondLst>
                            <p:childTnLst>
                              <p:par>
                                <p:cTn id="303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4">
                                      <p:cBhvr additive="repl">
                                        <p:cTn id="30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Oval 2"/>
          <p:cNvSpPr/>
          <p:nvPr/>
        </p:nvSpPr>
        <p:spPr>
          <a:xfrm>
            <a:off x="914400" y="685800"/>
            <a:ext cx="2362320" cy="2286000"/>
          </a:xfrm>
          <a:prstGeom prst="ellipse">
            <a:avLst/>
          </a:prstGeom>
          <a:solidFill>
            <a:srgbClr val="c6d4d4"/>
          </a:solidFill>
          <a:ln w="38160">
            <a:solidFill>
              <a:srgbClr val="4c08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Oval 3"/>
          <p:cNvSpPr/>
          <p:nvPr/>
        </p:nvSpPr>
        <p:spPr>
          <a:xfrm>
            <a:off x="3200400" y="2362320"/>
            <a:ext cx="2666880" cy="2286000"/>
          </a:xfrm>
          <a:prstGeom prst="ellipse">
            <a:avLst/>
          </a:prstGeom>
          <a:solidFill>
            <a:srgbClr val="c6d4d4"/>
          </a:solidFill>
          <a:ln w="38160">
            <a:solidFill>
              <a:srgbClr val="4c08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Oval 4"/>
          <p:cNvSpPr/>
          <p:nvPr/>
        </p:nvSpPr>
        <p:spPr>
          <a:xfrm>
            <a:off x="5638680" y="4114800"/>
            <a:ext cx="2667240" cy="2209680"/>
          </a:xfrm>
          <a:prstGeom prst="ellipse">
            <a:avLst/>
          </a:prstGeom>
          <a:solidFill>
            <a:srgbClr val="c6d4d4"/>
          </a:solidFill>
          <a:ln w="38160">
            <a:solidFill>
              <a:srgbClr val="4c08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5"/>
              <p:cNvSpPr txBox="1"/>
              <p:nvPr/>
            </p:nvSpPr>
            <p:spPr>
              <a:xfrm>
                <a:off x="1523880" y="1295280"/>
                <a:ext cx="121932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2" name="Picture 6" descr="SY00629_"/>
          <p:cNvPicPr/>
          <p:nvPr/>
        </p:nvPicPr>
        <p:blipFill>
          <a:blip r:embed="rId1"/>
          <a:stretch/>
        </p:blipFill>
        <p:spPr>
          <a:xfrm>
            <a:off x="6324480" y="4343400"/>
            <a:ext cx="1087560" cy="1789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j0301252"/>
          <p:cNvPicPr/>
          <p:nvPr/>
        </p:nvPicPr>
        <p:blipFill>
          <a:blip r:embed="rId2"/>
          <a:stretch/>
        </p:blipFill>
        <p:spPr>
          <a:xfrm>
            <a:off x="3733920" y="2712960"/>
            <a:ext cx="1676160" cy="14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9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9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9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9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9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4"/>
          <p:cNvSpPr/>
          <p:nvPr/>
        </p:nvSpPr>
        <p:spPr>
          <a:xfrm>
            <a:off x="1752480" y="914400"/>
            <a:ext cx="5562720" cy="1143000"/>
          </a:xfrm>
          <a:custGeom>
            <a:avLst/>
            <a:gdLst>
              <a:gd name="textAreaLeft" fmla="*/ 73800 w 5562720"/>
              <a:gd name="textAreaRight" fmla="*/ 5488920 w 55627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105096" h="21600">
                <a:moveTo>
                  <a:pt x="0" y="0"/>
                </a:moveTo>
                <a:lnTo>
                  <a:pt x="105096" y="0"/>
                </a:lnTo>
                <a:lnTo>
                  <a:pt x="105096" y="21600"/>
                </a:lnTo>
                <a:lnTo>
                  <a:pt x="0" y="21600"/>
                </a:lnTo>
                <a:close/>
              </a:path>
              <a:path fill="lightenLess" w="105096" h="21600">
                <a:moveTo>
                  <a:pt x="0" y="0"/>
                </a:moveTo>
                <a:lnTo>
                  <a:pt x="105096" y="0"/>
                </a:lnTo>
                <a:lnTo>
                  <a:pt x="103696" y="1400"/>
                </a:lnTo>
                <a:lnTo>
                  <a:pt x="1400" y="1400"/>
                </a:lnTo>
                <a:close/>
              </a:path>
              <a:path fill="darken" w="105096" h="21600">
                <a:moveTo>
                  <a:pt x="105096" y="0"/>
                </a:moveTo>
                <a:lnTo>
                  <a:pt x="105096" y="21600"/>
                </a:lnTo>
                <a:lnTo>
                  <a:pt x="103696" y="20200"/>
                </a:lnTo>
                <a:lnTo>
                  <a:pt x="103696" y="1400"/>
                </a:lnTo>
                <a:close/>
              </a:path>
              <a:path fill="darkenLess" w="105096" h="21600">
                <a:moveTo>
                  <a:pt x="1050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696" y="20200"/>
                </a:lnTo>
                <a:close/>
              </a:path>
              <a:path fill="lighten" w="1050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a9e"/>
                </a:solidFill>
                <a:latin typeface="Rockwell Extra Bold"/>
              </a:rPr>
              <a:t>ТУР</a:t>
            </a:r>
            <a:r>
              <a:rPr b="0" lang="ru-RU" sz="4000" spc="-1" strike="noStrike">
                <a:solidFill>
                  <a:srgbClr val="fcfa9e"/>
                </a:solidFill>
                <a:latin typeface="Rockwell Extra Bold"/>
              </a:rPr>
              <a:t> 1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1752480" y="2590920"/>
            <a:ext cx="5562720" cy="1143000"/>
          </a:xfrm>
          <a:custGeom>
            <a:avLst/>
            <a:gdLst>
              <a:gd name="textAreaLeft" fmla="*/ 73800 w 5562720"/>
              <a:gd name="textAreaRight" fmla="*/ 5488920 w 55627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105096" h="21600">
                <a:moveTo>
                  <a:pt x="0" y="0"/>
                </a:moveTo>
                <a:lnTo>
                  <a:pt x="105096" y="0"/>
                </a:lnTo>
                <a:lnTo>
                  <a:pt x="105096" y="21600"/>
                </a:lnTo>
                <a:lnTo>
                  <a:pt x="0" y="21600"/>
                </a:lnTo>
                <a:close/>
              </a:path>
              <a:path fill="lightenLess" w="105096" h="21600">
                <a:moveTo>
                  <a:pt x="0" y="0"/>
                </a:moveTo>
                <a:lnTo>
                  <a:pt x="105096" y="0"/>
                </a:lnTo>
                <a:lnTo>
                  <a:pt x="103696" y="1400"/>
                </a:lnTo>
                <a:lnTo>
                  <a:pt x="1400" y="1400"/>
                </a:lnTo>
                <a:close/>
              </a:path>
              <a:path fill="darken" w="105096" h="21600">
                <a:moveTo>
                  <a:pt x="105096" y="0"/>
                </a:moveTo>
                <a:lnTo>
                  <a:pt x="105096" y="21600"/>
                </a:lnTo>
                <a:lnTo>
                  <a:pt x="103696" y="20200"/>
                </a:lnTo>
                <a:lnTo>
                  <a:pt x="103696" y="1400"/>
                </a:lnTo>
                <a:close/>
              </a:path>
              <a:path fill="darkenLess" w="105096" h="21600">
                <a:moveTo>
                  <a:pt x="1050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696" y="20200"/>
                </a:lnTo>
                <a:close/>
              </a:path>
              <a:path fill="lighten" w="1050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a9e"/>
                </a:solidFill>
                <a:latin typeface="Rockwell Extra Bold"/>
              </a:rPr>
              <a:t>ТУР 2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1752480" y="4267080"/>
            <a:ext cx="5562720" cy="1143000"/>
          </a:xfrm>
          <a:custGeom>
            <a:avLst/>
            <a:gdLst>
              <a:gd name="textAreaLeft" fmla="*/ 73800 w 5562720"/>
              <a:gd name="textAreaRight" fmla="*/ 5488920 w 55627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105096" h="21600">
                <a:moveTo>
                  <a:pt x="0" y="0"/>
                </a:moveTo>
                <a:lnTo>
                  <a:pt x="105096" y="0"/>
                </a:lnTo>
                <a:lnTo>
                  <a:pt x="105096" y="21600"/>
                </a:lnTo>
                <a:lnTo>
                  <a:pt x="0" y="21600"/>
                </a:lnTo>
                <a:close/>
              </a:path>
              <a:path fill="lightenLess" w="105096" h="21600">
                <a:moveTo>
                  <a:pt x="0" y="0"/>
                </a:moveTo>
                <a:lnTo>
                  <a:pt x="105096" y="0"/>
                </a:lnTo>
                <a:lnTo>
                  <a:pt x="103696" y="1400"/>
                </a:lnTo>
                <a:lnTo>
                  <a:pt x="1400" y="1400"/>
                </a:lnTo>
                <a:close/>
              </a:path>
              <a:path fill="darken" w="105096" h="21600">
                <a:moveTo>
                  <a:pt x="105096" y="0"/>
                </a:moveTo>
                <a:lnTo>
                  <a:pt x="105096" y="21600"/>
                </a:lnTo>
                <a:lnTo>
                  <a:pt x="103696" y="20200"/>
                </a:lnTo>
                <a:lnTo>
                  <a:pt x="103696" y="1400"/>
                </a:lnTo>
                <a:close/>
              </a:path>
              <a:path fill="darkenLess" w="105096" h="21600">
                <a:moveTo>
                  <a:pt x="1050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696" y="20200"/>
                </a:lnTo>
                <a:close/>
              </a:path>
              <a:path fill="lighten" w="1050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a9e"/>
                </a:solidFill>
                <a:latin typeface="Rockwell Extra Bold"/>
              </a:rPr>
              <a:t>ТУР 3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m</cp:lastModifiedBy>
  <dcterms:modified xsi:type="dcterms:W3CDTF">2015-02-02T15:45:02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